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9848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9848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8800" y="39848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6765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16765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9848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39848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9848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4A1C-9395-4457-B9BA-78EC538A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90A9-5C51-467E-A819-E5B313DA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533E-8F29-48BC-9728-A74EDFCD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E6A1-A44F-4EAA-A7E4-F5703406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ECAD-40DD-42E8-82F3-B8DAB9A5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0920" y="7650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0E1-64A5-4027-B7C4-EAAB18DD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9848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046D-9990-45FD-BE3E-FA5512EF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8800" y="39848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0541-F734-4E86-87F4-878BD94D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9848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D193-5F86-4201-97FB-49AF40FE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9848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3178-0194-412D-8725-EBBD2D4C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9848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0" y="39848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D627-1514-4124-9B7B-2BBED371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4520" y="16765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920" y="16765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9848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4520" y="39848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920" y="39848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EFB5-55FD-44D1-B631-0FB9BC01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0920" y="7650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9848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8800" y="39848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8800" y="16765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9848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ELCelje"/>
          <p:cNvPicPr/>
          <p:nvPr/>
        </p:nvPicPr>
        <p:blipFill>
          <a:blip r:embed="rId2"/>
          <a:srcRect l="0" t="0" r="16460" b="0"/>
          <a:stretch/>
        </p:blipFill>
        <p:spPr>
          <a:xfrm>
            <a:off x="5292720" y="1268280"/>
            <a:ext cx="3851280" cy="5113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791"/>
                </a:solidFill>
                <a:latin typeface="DINCE-Light"/>
              </a:rPr>
              <a:t>Click to edit the title text format</a:t>
            </a: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>
              <a:spcBef>
                <a:spcPts val="451"/>
              </a:spcBef>
              <a:buClr>
                <a:srgbClr val="005791"/>
              </a:buClr>
              <a:buFont typeface="DINC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791"/>
                </a:solidFill>
                <a:latin typeface="DINCE-Light"/>
              </a:rPr>
              <a:t>Click to edit the outline text format</a:t>
            </a: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  <a:p>
            <a:pPr lvl="1" marL="577800" indent="-195120">
              <a:spcBef>
                <a:spcPts val="451"/>
              </a:spcBef>
              <a:buClr>
                <a:srgbClr val="005791"/>
              </a:buClr>
              <a:buFont typeface="DINCE-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791"/>
                </a:solidFill>
                <a:latin typeface="DINCE-Light"/>
              </a:rPr>
              <a:t>Second Outline Level</a:t>
            </a: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  <a:p>
            <a:pPr lvl="2" marL="949320" indent="-181080">
              <a:spcBef>
                <a:spcPts val="451"/>
              </a:spcBef>
              <a:buClr>
                <a:srgbClr val="005791"/>
              </a:buClr>
              <a:buFont typeface="DINC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791"/>
                </a:solidFill>
                <a:latin typeface="DINCE-Light"/>
              </a:rPr>
              <a:t>Third Outline Level</a:t>
            </a: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  <a:p>
            <a:pPr lvl="3" marL="1339920" indent="-192240">
              <a:spcBef>
                <a:spcPts val="451"/>
              </a:spcBef>
              <a:buClr>
                <a:srgbClr val="005791"/>
              </a:buClr>
              <a:buFont typeface="DINCE-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791"/>
                </a:solidFill>
                <a:latin typeface="DINCE-Light"/>
              </a:rPr>
              <a:t>Fourth Outline Level</a:t>
            </a: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  <a:p>
            <a:pPr lvl="4" marL="1719360" indent="-189000">
              <a:spcBef>
                <a:spcPts val="451"/>
              </a:spcBef>
              <a:buClr>
                <a:srgbClr val="005791"/>
              </a:buClr>
              <a:buFont typeface="DINCE-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791"/>
                </a:solidFill>
                <a:latin typeface="DINCE-Light"/>
              </a:rPr>
              <a:t>Fifth Outline Level</a:t>
            </a: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  <a:p>
            <a:pPr lvl="5" marL="1719360" indent="-189000">
              <a:spcBef>
                <a:spcPts val="451"/>
              </a:spcBef>
              <a:buClr>
                <a:srgbClr val="003a9d"/>
              </a:buClr>
              <a:buFont typeface="DINCE-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791"/>
                </a:solidFill>
                <a:latin typeface="DINCE-Light"/>
              </a:rPr>
              <a:t>Sixth Outline Level</a:t>
            </a: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  <a:p>
            <a:pPr lvl="6" marL="1719360" indent="-189000">
              <a:spcBef>
                <a:spcPts val="451"/>
              </a:spcBef>
              <a:buClr>
                <a:srgbClr val="003a9d"/>
              </a:buClr>
              <a:buFont typeface="DINCE-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791"/>
                </a:solidFill>
                <a:latin typeface="DINCE-Light"/>
              </a:rPr>
              <a:t>Seventh Outline Level</a:t>
            </a: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0"/>
            <a:ext cx="250920" cy="6858000"/>
          </a:xfrm>
          <a:prstGeom prst="rect">
            <a:avLst/>
          </a:prstGeom>
          <a:solidFill>
            <a:srgbClr val="005791"/>
          </a:solidFill>
          <a:ln w="9360">
            <a:solidFill>
              <a:srgbClr val="005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a9d"/>
              </a:solidFill>
              <a:latin typeface="Times New Roman"/>
            </a:endParaRPr>
          </a:p>
        </p:txBody>
      </p:sp>
      <p:pic>
        <p:nvPicPr>
          <p:cNvPr id="4" name="Picture 8" descr="ELCelje_1"/>
          <p:cNvPicPr/>
          <p:nvPr/>
        </p:nvPicPr>
        <p:blipFill>
          <a:blip r:embed="rId3"/>
          <a:stretch/>
        </p:blipFill>
        <p:spPr>
          <a:xfrm>
            <a:off x="468360" y="189000"/>
            <a:ext cx="143964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9d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9d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5CC9-EB99-411D-82EC-4943C3137F1C}" type="slidenum"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Gregor.alauf@elektro-celje.si&#160;" TargetMode="External"/><Relationship Id="rId2" Type="http://schemas.openxmlformats.org/officeDocument/2006/relationships/hyperlink" Target="http://www.elektro-celje.si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52280" y="2276280"/>
            <a:ext cx="7608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400" spc="-1" strike="noStrike">
                <a:solidFill>
                  <a:srgbClr val="005791"/>
                </a:solidFill>
                <a:latin typeface="DINCE-Light"/>
              </a:rPr>
              <a:t>ODSTOPANJA OD VOZNIH REDOV Z</a:t>
            </a:r>
            <a:br>
              <a:rPr sz="3400"/>
            </a:br>
            <a:r>
              <a:rPr b="1" lang="sl-SI" sz="3400" spc="-1" strike="noStrike">
                <a:solidFill>
                  <a:srgbClr val="005791"/>
                </a:solidFill>
                <a:latin typeface="DINCE-Light"/>
              </a:rPr>
              <a:t>15 MINUTNIMI DIAGRAMI</a:t>
            </a:r>
            <a:br>
              <a:rPr sz="3400"/>
            </a:br>
            <a:endParaRPr b="0" lang="en-US" sz="34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969840" y="5084640"/>
            <a:ext cx="7772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5791"/>
                </a:solidFill>
                <a:latin typeface="DINCE-Bold"/>
              </a:rPr>
              <a:t>Gregor Alauf</a:t>
            </a:r>
            <a:endParaRPr b="0" lang="en-US" sz="18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5791"/>
                </a:solidFill>
                <a:latin typeface="DINCE-Bold"/>
              </a:rPr>
              <a:t>Sektor za obratovanje in razvoj, Služba DŠM</a:t>
            </a:r>
            <a:endParaRPr b="0" lang="en-US" sz="18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5791"/>
                </a:solidFill>
                <a:latin typeface="DINCE-Bold"/>
              </a:rPr>
              <a:t>Celje, november 2018</a:t>
            </a:r>
            <a:endParaRPr b="0" lang="en-US" sz="18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a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120" y="1676520"/>
            <a:ext cx="8001000" cy="4419360"/>
          </a:xfrm>
          <a:prstGeom prst="rect">
            <a:avLst/>
          </a:prstGeom>
          <a:ln w="0">
            <a:noFill/>
          </a:ln>
        </p:spPr>
      </p:pic>
      <p:pic>
        <p:nvPicPr>
          <p:cNvPr id="116" name="Grafikon 3" descr=""/>
          <p:cNvPicPr/>
          <p:nvPr/>
        </p:nvPicPr>
        <p:blipFill>
          <a:blip r:embed="rId2"/>
          <a:stretch/>
        </p:blipFill>
        <p:spPr>
          <a:xfrm>
            <a:off x="603360" y="1895400"/>
            <a:ext cx="79311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pic>
        <p:nvPicPr>
          <p:cNvPr id="118" name="Označba mesta vsebine 3" descr=""/>
          <p:cNvPicPr/>
          <p:nvPr/>
        </p:nvPicPr>
        <p:blipFill>
          <a:blip r:embed="rId1"/>
          <a:stretch/>
        </p:blipFill>
        <p:spPr>
          <a:xfrm>
            <a:off x="682560" y="907920"/>
            <a:ext cx="8004240" cy="4419720"/>
          </a:xfrm>
          <a:prstGeom prst="rect">
            <a:avLst/>
          </a:prstGeom>
          <a:ln w="0">
            <a:noFill/>
          </a:ln>
        </p:spPr>
      </p:pic>
      <p:sp>
        <p:nvSpPr>
          <p:cNvPr id="119" name="Pravokotnik 4"/>
          <p:cNvSpPr/>
          <p:nvPr/>
        </p:nvSpPr>
        <p:spPr>
          <a:xfrm>
            <a:off x="259200" y="4575240"/>
            <a:ext cx="33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3a9d"/>
                </a:solidFill>
                <a:latin typeface="Times New Roman"/>
              </a:rPr>
              <a:t>PRIMER:</a:t>
            </a:r>
            <a:endParaRPr b="0" lang="en-US" sz="18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a9d"/>
                </a:solidFill>
                <a:latin typeface="Times New Roman"/>
              </a:rPr>
              <a:t>=(N5-N1)/(ROW(N5)-ROW(N1))</a:t>
            </a:r>
            <a:endParaRPr b="0" lang="en-US" sz="1800" spc="-1" strike="noStrike">
              <a:solidFill>
                <a:srgbClr val="003a9d"/>
              </a:solidFill>
              <a:latin typeface="Times New Roman"/>
            </a:endParaRPr>
          </a:p>
        </p:txBody>
      </p:sp>
      <p:sp>
        <p:nvSpPr>
          <p:cNvPr id="120" name="Pravokotnik 5"/>
          <p:cNvSpPr/>
          <p:nvPr/>
        </p:nvSpPr>
        <p:spPr>
          <a:xfrm>
            <a:off x="335520" y="5348160"/>
            <a:ext cx="13892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a9d"/>
                </a:solidFill>
                <a:latin typeface="Times New Roman"/>
              </a:rPr>
              <a:t>PRIMER 1:</a:t>
            </a:r>
            <a:endParaRPr b="0" lang="en-US" sz="20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3a9d"/>
                </a:solidFill>
                <a:latin typeface="Times New Roman"/>
              </a:rPr>
              <a:t>1 uri 4000</a:t>
            </a:r>
            <a:endParaRPr b="0" lang="en-US" sz="16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3a9d"/>
                </a:solidFill>
                <a:latin typeface="Times New Roman"/>
              </a:rPr>
              <a:t>2 uri 6000</a:t>
            </a:r>
            <a:endParaRPr b="0" lang="en-US" sz="1600" spc="-1" strike="noStrike">
              <a:solidFill>
                <a:srgbClr val="003a9d"/>
              </a:solidFill>
              <a:latin typeface="Times New Roman"/>
            </a:endParaRPr>
          </a:p>
        </p:txBody>
      </p:sp>
      <p:sp>
        <p:nvSpPr>
          <p:cNvPr id="121" name="Pravokotnik 6"/>
          <p:cNvSpPr/>
          <p:nvPr/>
        </p:nvSpPr>
        <p:spPr>
          <a:xfrm>
            <a:off x="2303640" y="5084640"/>
            <a:ext cx="17269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PRIMER 2: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0:15    10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0:30    10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0:45    10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1:00    15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1:15    15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1:30    15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1:45    15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</p:txBody>
      </p:sp>
      <p:cxnSp>
        <p:nvCxnSpPr>
          <p:cNvPr id="122" name="Raven puščični povezovalnik 7"/>
          <p:cNvCxnSpPr/>
          <p:nvPr/>
        </p:nvCxnSpPr>
        <p:spPr>
          <a:xfrm>
            <a:off x="1723680" y="5808240"/>
            <a:ext cx="432360" cy="1080"/>
          </a:xfrm>
          <a:prstGeom prst="straightConnector1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pic>
        <p:nvPicPr>
          <p:cNvPr id="123" name="Pravokotnik 8" descr=""/>
          <p:cNvPicPr/>
          <p:nvPr/>
        </p:nvPicPr>
        <p:blipFill>
          <a:blip r:embed="rId2"/>
          <a:stretch/>
        </p:blipFill>
        <p:spPr>
          <a:xfrm>
            <a:off x="4529160" y="5072040"/>
            <a:ext cx="1743120" cy="2139840"/>
          </a:xfrm>
          <a:prstGeom prst="rect">
            <a:avLst/>
          </a:prstGeom>
          <a:ln w="0">
            <a:noFill/>
          </a:ln>
        </p:spPr>
      </p:pic>
      <p:cxnSp>
        <p:nvCxnSpPr>
          <p:cNvPr id="124" name="Raven puščični povezovalnik 9"/>
          <p:cNvCxnSpPr/>
          <p:nvPr/>
        </p:nvCxnSpPr>
        <p:spPr>
          <a:xfrm>
            <a:off x="3814560" y="5808240"/>
            <a:ext cx="432360" cy="1080"/>
          </a:xfrm>
          <a:prstGeom prst="straightConnector1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pic>
        <p:nvPicPr>
          <p:cNvPr id="125" name="Pravokotnik 15" descr=""/>
          <p:cNvPicPr/>
          <p:nvPr/>
        </p:nvPicPr>
        <p:blipFill>
          <a:blip r:embed="rId3"/>
          <a:stretch/>
        </p:blipFill>
        <p:spPr>
          <a:xfrm>
            <a:off x="6686640" y="5022720"/>
            <a:ext cx="1751040" cy="2347920"/>
          </a:xfrm>
          <a:prstGeom prst="rect">
            <a:avLst/>
          </a:prstGeom>
          <a:ln w="0">
            <a:noFill/>
          </a:ln>
        </p:spPr>
      </p:pic>
      <p:cxnSp>
        <p:nvCxnSpPr>
          <p:cNvPr id="126" name="Raven puščični povezovalnik 16"/>
          <p:cNvCxnSpPr/>
          <p:nvPr/>
        </p:nvCxnSpPr>
        <p:spPr>
          <a:xfrm>
            <a:off x="5976720" y="5754240"/>
            <a:ext cx="432360" cy="1080"/>
          </a:xfrm>
          <a:prstGeom prst="straightConnector1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pic>
        <p:nvPicPr>
          <p:cNvPr id="128" name="Označba mesta vsebine 3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9981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pic>
        <p:nvPicPr>
          <p:cNvPr id="130" name="Označba mesta vsebine 3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998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1041480" y="641520"/>
            <a:ext cx="4537080" cy="1708920"/>
          </a:xfrm>
          <a:prstGeom prst="rect">
            <a:avLst/>
          </a:prstGeom>
          <a:solidFill>
            <a:srgbClr val="00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5791"/>
                </a:solidFill>
                <a:latin typeface="DINCE-Light"/>
              </a:rPr>
              <a:t>Hvala za </a:t>
            </a:r>
            <a:r>
              <a:rPr b="0" lang="sl-SI" sz="3300" spc="-1" strike="noStrike">
                <a:solidFill>
                  <a:srgbClr val="005791"/>
                </a:solidFill>
                <a:latin typeface="DINCE-Light"/>
              </a:rPr>
              <a:t>pozornost</a:t>
            </a:r>
            <a:r>
              <a:rPr b="0" lang="en-US" sz="3300" spc="-1" strike="noStrike">
                <a:solidFill>
                  <a:srgbClr val="005791"/>
                </a:solidFill>
                <a:latin typeface="DINCE-Light"/>
              </a:rPr>
              <a:t>.</a:t>
            </a:r>
            <a:endParaRPr b="0" lang="en-US" sz="33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9d"/>
              </a:solidFill>
              <a:latin typeface="Times New Roman"/>
            </a:endParaRPr>
          </a:p>
        </p:txBody>
      </p:sp>
      <p:sp>
        <p:nvSpPr>
          <p:cNvPr id="132" name="Pravokotnik 1"/>
          <p:cNvSpPr/>
          <p:nvPr/>
        </p:nvSpPr>
        <p:spPr>
          <a:xfrm>
            <a:off x="1042920" y="2421000"/>
            <a:ext cx="605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Gregor Alauf</a:t>
            </a:r>
            <a:endParaRPr b="0" lang="en-US" sz="2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Inženir za dostop </a:t>
            </a:r>
            <a:endParaRPr b="0" lang="en-US" sz="2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Služba za dostop in števčne meritve</a:t>
            </a:r>
            <a:endParaRPr b="0" lang="en-US" sz="2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2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308"/>
                </a:solidFill>
                <a:latin typeface="Calibri"/>
                <a:ea typeface="Calibri"/>
              </a:rPr>
              <a:t>t: 03 42 01 417 | </a:t>
            </a:r>
            <a:endParaRPr b="0" lang="en-US" sz="2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308"/>
                </a:solidFill>
                <a:latin typeface="Calibri"/>
                <a:ea typeface="Calibri"/>
              </a:rPr>
              <a:t>m: 031 48 38 28  |  </a:t>
            </a:r>
            <a:endParaRPr b="0" lang="en-US" sz="2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308"/>
                </a:solidFill>
                <a:latin typeface="Calibri"/>
                <a:ea typeface="Calibri"/>
              </a:rPr>
              <a:t>f: 03 42 01 487 |  </a:t>
            </a:r>
            <a:endParaRPr b="0" lang="en-US" sz="2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u="sng">
                <a:solidFill>
                  <a:srgbClr val="ccccff"/>
                </a:solidFill>
                <a:uFillTx/>
                <a:latin typeface="Calibri"/>
                <a:ea typeface="Calibri"/>
                <a:hlinkClick r:id="rId1"/>
              </a:rPr>
              <a:t>Gregor.alauf@elektro-celje.si </a:t>
            </a:r>
            <a:r>
              <a:rPr b="0" lang="sl-SI" sz="2400" spc="-1" strike="noStrike">
                <a:solidFill>
                  <a:srgbClr val="000308"/>
                </a:solidFill>
                <a:latin typeface="Calibri"/>
                <a:ea typeface="Calibri"/>
              </a:rPr>
              <a:t> |  </a:t>
            </a:r>
            <a:endParaRPr b="0" lang="en-US" sz="2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u="sng">
                <a:solidFill>
                  <a:srgbClr val="ccccff"/>
                </a:solidFill>
                <a:uFillTx/>
                <a:latin typeface="Calibri"/>
                <a:ea typeface="Calibri"/>
                <a:hlinkClick r:id="rId2"/>
              </a:rPr>
              <a:t>www.elektro-celje.si</a:t>
            </a:r>
            <a:r>
              <a:rPr b="0" lang="sl-SI" sz="2400" spc="-1" strike="noStrike">
                <a:solidFill>
                  <a:srgbClr val="000308"/>
                </a:solidFill>
                <a:latin typeface="Calibri"/>
                <a:ea typeface="Calibri"/>
              </a:rPr>
              <a:t> </a:t>
            </a:r>
            <a:br>
              <a:rPr sz="2400"/>
            </a:br>
            <a:r>
              <a:rPr b="0" lang="sl-SI" sz="2400" spc="-1" strike="noStrike">
                <a:solidFill>
                  <a:srgbClr val="000308"/>
                </a:solidFill>
                <a:latin typeface="Calibri"/>
                <a:ea typeface="Calibri"/>
              </a:rPr>
              <a:t>Elektro Celje, d.d., Vrunčeva 2a, 3000 Celje</a:t>
            </a:r>
            <a:endParaRPr b="0" lang="en-US" sz="2400" spc="-1" strike="noStrike">
              <a:solidFill>
                <a:srgbClr val="003a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5791"/>
                </a:solidFill>
                <a:latin typeface="DINCE-Light"/>
              </a:rPr>
              <a:t>BORZEN</a:t>
            </a: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1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>
              <a:spcBef>
                <a:spcPts val="451"/>
              </a:spcBef>
              <a:buClr>
                <a:srgbClr val="005791"/>
              </a:buClr>
              <a:buFont typeface="DINC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5791"/>
                </a:solidFill>
                <a:latin typeface="DINCE-Light"/>
              </a:rPr>
              <a:t>https://www.borzen.si/sl/Domov/menu1/Informacije/Novice/Aktualne-novice/ArticleID/579/Javna-obravnava-Pravil-za-delovanje-trga-z-elektriko</a:t>
            </a: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pic>
        <p:nvPicPr>
          <p:cNvPr id="86" name="Slika 6" descr=""/>
          <p:cNvPicPr/>
          <p:nvPr/>
        </p:nvPicPr>
        <p:blipFill>
          <a:blip r:embed="rId1"/>
          <a:srcRect l="10624" t="16878" r="29526" b="2480"/>
          <a:stretch/>
        </p:blipFill>
        <p:spPr>
          <a:xfrm>
            <a:off x="1763640" y="2554200"/>
            <a:ext cx="54007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pic>
        <p:nvPicPr>
          <p:cNvPr id="88" name="Označba mesta vsebine 3" descr=""/>
          <p:cNvPicPr/>
          <p:nvPr/>
        </p:nvPicPr>
        <p:blipFill>
          <a:blip r:embed="rId1"/>
          <a:srcRect l="33325" t="29665" r="33376" b="27439"/>
          <a:stretch/>
        </p:blipFill>
        <p:spPr>
          <a:xfrm>
            <a:off x="1763640" y="1771560"/>
            <a:ext cx="5832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1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 algn="ctr">
              <a:spcBef>
                <a:spcPts val="451"/>
              </a:spcBef>
              <a:buClr>
                <a:srgbClr val="005791"/>
              </a:buClr>
              <a:buFont typeface="DINC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  <a:p>
            <a:pPr marL="192240" indent="-192240" algn="ctr">
              <a:spcBef>
                <a:spcPts val="451"/>
              </a:spcBef>
              <a:buClr>
                <a:srgbClr val="005791"/>
              </a:buClr>
              <a:buFont typeface="DINC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  <a:p>
            <a:pPr marL="192240" indent="-192240" algn="ctr">
              <a:spcBef>
                <a:spcPts val="451"/>
              </a:spcBef>
              <a:buClr>
                <a:srgbClr val="005791"/>
              </a:buClr>
              <a:buFont typeface="DINC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5791"/>
                </a:solidFill>
                <a:latin typeface="DINCE-Light"/>
              </a:rPr>
              <a:t>PRAVILA ZA DELOVANJE TRGA Z ELEKTRIKO </a:t>
            </a: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pic>
        <p:nvPicPr>
          <p:cNvPr id="91" name="Slika 3" descr=""/>
          <p:cNvPicPr/>
          <p:nvPr/>
        </p:nvPicPr>
        <p:blipFill>
          <a:blip r:embed="rId1"/>
          <a:srcRect l="31100" t="45682" r="31100" b="37043"/>
          <a:stretch/>
        </p:blipFill>
        <p:spPr>
          <a:xfrm>
            <a:off x="2050920" y="2708280"/>
            <a:ext cx="4897440" cy="1225440"/>
          </a:xfrm>
          <a:prstGeom prst="rect">
            <a:avLst/>
          </a:prstGeom>
          <a:ln w="0">
            <a:noFill/>
          </a:ln>
        </p:spPr>
      </p:pic>
      <p:pic>
        <p:nvPicPr>
          <p:cNvPr id="92" name="Slika 5" descr=""/>
          <p:cNvPicPr/>
          <p:nvPr/>
        </p:nvPicPr>
        <p:blipFill>
          <a:blip r:embed="rId2"/>
          <a:srcRect l="30313" t="39923" r="31100" b="38480"/>
          <a:stretch/>
        </p:blipFill>
        <p:spPr>
          <a:xfrm>
            <a:off x="1835280" y="4221000"/>
            <a:ext cx="518472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5791"/>
                </a:solidFill>
                <a:latin typeface="DINCE-Light"/>
              </a:rPr>
              <a:t>Podatki za avgust 2018 - Razlika</a:t>
            </a: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pic>
        <p:nvPicPr>
          <p:cNvPr id="94" name="Označba mesta vsebine 3" descr=""/>
          <p:cNvPicPr/>
          <p:nvPr/>
        </p:nvPicPr>
        <p:blipFill>
          <a:blip r:embed="rId1"/>
          <a:stretch/>
        </p:blipFill>
        <p:spPr>
          <a:xfrm>
            <a:off x="579600" y="1908000"/>
            <a:ext cx="7710480" cy="2590920"/>
          </a:xfrm>
          <a:prstGeom prst="rect">
            <a:avLst/>
          </a:prstGeom>
          <a:ln w="0">
            <a:noFill/>
          </a:ln>
        </p:spPr>
      </p:pic>
      <p:pic>
        <p:nvPicPr>
          <p:cNvPr id="95" name="Grafikon 4" descr=""/>
          <p:cNvPicPr/>
          <p:nvPr/>
        </p:nvPicPr>
        <p:blipFill>
          <a:blip r:embed="rId2"/>
          <a:stretch/>
        </p:blipFill>
        <p:spPr>
          <a:xfrm>
            <a:off x="590400" y="4468680"/>
            <a:ext cx="78710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5791"/>
                </a:solidFill>
                <a:latin typeface="DINCE-Light"/>
              </a:rPr>
              <a:t>Pravila</a:t>
            </a: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2240" indent="-192240">
              <a:spcBef>
                <a:spcPts val="451"/>
              </a:spcBef>
              <a:buClr>
                <a:srgbClr val="005791"/>
              </a:buClr>
              <a:buFont typeface="DINC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5791"/>
                </a:solidFill>
                <a:latin typeface="DINCE-Light"/>
              </a:rPr>
              <a:t>Velja za vse</a:t>
            </a: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  <a:p>
            <a:pPr marL="192240" indent="-192240">
              <a:spcBef>
                <a:spcPts val="451"/>
              </a:spcBef>
              <a:buClr>
                <a:srgbClr val="005791"/>
              </a:buClr>
              <a:buFont typeface="DINC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5791"/>
                </a:solidFill>
                <a:latin typeface="DINCE-Light"/>
              </a:rPr>
              <a:t>Izpadi podatkov</a:t>
            </a: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  <a:p>
            <a:pPr marL="192240" indent="-192240">
              <a:spcBef>
                <a:spcPts val="451"/>
              </a:spcBef>
              <a:buClr>
                <a:srgbClr val="005791"/>
              </a:buClr>
              <a:buFont typeface="DINC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5791"/>
                </a:solidFill>
                <a:latin typeface="DINCE-Light"/>
              </a:rPr>
              <a:t>Nadomeščanje podatkov</a:t>
            </a: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  <a:p>
            <a:pPr marL="192240" indent="-192240">
              <a:spcBef>
                <a:spcPts val="451"/>
              </a:spcBef>
              <a:buClr>
                <a:srgbClr val="005791"/>
              </a:buClr>
              <a:buFont typeface="DINC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5791"/>
                </a:solidFill>
                <a:latin typeface="DINCE-Light"/>
              </a:rPr>
              <a:t>Jutranji podatki</a:t>
            </a: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  <a:p>
            <a:pPr marL="192240" indent="-192240">
              <a:spcBef>
                <a:spcPts val="451"/>
              </a:spcBef>
              <a:buClr>
                <a:srgbClr val="005791"/>
              </a:buClr>
              <a:buFont typeface="DINC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5791"/>
                </a:solidFill>
                <a:latin typeface="DINCE-Light"/>
              </a:rPr>
              <a:t>Reklamacija odstopanj</a:t>
            </a: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  <a:p>
            <a:pPr marL="192240" indent="-192240">
              <a:spcBef>
                <a:spcPts val="451"/>
              </a:spcBef>
              <a:buClr>
                <a:srgbClr val="005791"/>
              </a:buClr>
              <a:buFont typeface="DINC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791"/>
              </a:solidFill>
              <a:latin typeface="DINCE-Light"/>
            </a:endParaRPr>
          </a:p>
        </p:txBody>
      </p:sp>
      <p:pic>
        <p:nvPicPr>
          <p:cNvPr id="98" name="Slika 3" descr=""/>
          <p:cNvPicPr/>
          <p:nvPr/>
        </p:nvPicPr>
        <p:blipFill>
          <a:blip r:embed="rId1"/>
          <a:srcRect l="2703" t="11249" r="72163" b="15773"/>
          <a:stretch/>
        </p:blipFill>
        <p:spPr>
          <a:xfrm>
            <a:off x="5181480" y="476280"/>
            <a:ext cx="396108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5791"/>
                </a:solidFill>
                <a:latin typeface="DINCE-Light"/>
              </a:rPr>
              <a:t>Predlog</a:t>
            </a: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pic>
        <p:nvPicPr>
          <p:cNvPr id="100" name="Označba mesta vsebine 3" descr=""/>
          <p:cNvPicPr/>
          <p:nvPr/>
        </p:nvPicPr>
        <p:blipFill>
          <a:blip r:embed="rId1"/>
          <a:stretch/>
        </p:blipFill>
        <p:spPr>
          <a:xfrm>
            <a:off x="609480" y="1225440"/>
            <a:ext cx="8004240" cy="3979800"/>
          </a:xfrm>
          <a:prstGeom prst="rect">
            <a:avLst/>
          </a:prstGeom>
          <a:ln w="0">
            <a:noFill/>
          </a:ln>
        </p:spPr>
      </p:pic>
      <p:sp>
        <p:nvSpPr>
          <p:cNvPr id="101" name="Pravokotnik 1"/>
          <p:cNvSpPr/>
          <p:nvPr/>
        </p:nvSpPr>
        <p:spPr>
          <a:xfrm>
            <a:off x="618120" y="5084640"/>
            <a:ext cx="1197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a9d"/>
                </a:solidFill>
                <a:latin typeface="Times New Roman"/>
              </a:rPr>
              <a:t>PRIMER:</a:t>
            </a:r>
            <a:endParaRPr b="0" lang="en-US" sz="20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3a9d"/>
                </a:solidFill>
                <a:latin typeface="Times New Roman"/>
              </a:rPr>
              <a:t>1 uri 4000</a:t>
            </a:r>
            <a:endParaRPr b="0" lang="en-US" sz="16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3a9d"/>
                </a:solidFill>
                <a:latin typeface="Times New Roman"/>
              </a:rPr>
              <a:t>2 uri 6000</a:t>
            </a:r>
            <a:endParaRPr b="0" lang="en-US" sz="1600" spc="-1" strike="noStrike">
              <a:solidFill>
                <a:srgbClr val="003a9d"/>
              </a:solidFill>
              <a:latin typeface="Times New Roman"/>
            </a:endParaRPr>
          </a:p>
        </p:txBody>
      </p:sp>
      <p:sp>
        <p:nvSpPr>
          <p:cNvPr id="102" name="Pravokotnik 4"/>
          <p:cNvSpPr/>
          <p:nvPr/>
        </p:nvSpPr>
        <p:spPr>
          <a:xfrm>
            <a:off x="2556000" y="5030640"/>
            <a:ext cx="1728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PRIMER: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0:15    10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0:30    10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0:45    10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1:00    15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1:15    15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1:30    15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1:45    15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</p:txBody>
      </p:sp>
      <p:cxnSp>
        <p:nvCxnSpPr>
          <p:cNvPr id="103" name="Raven puščični povezovalnik 5"/>
          <p:cNvCxnSpPr/>
          <p:nvPr/>
        </p:nvCxnSpPr>
        <p:spPr>
          <a:xfrm>
            <a:off x="1979280" y="5660640"/>
            <a:ext cx="432360" cy="1080"/>
          </a:xfrm>
          <a:prstGeom prst="straightConnector1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5791"/>
                </a:solidFill>
                <a:latin typeface="DINCE-Light"/>
              </a:rPr>
              <a:t>Pogrešek</a:t>
            </a: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pic>
        <p:nvPicPr>
          <p:cNvPr id="105" name="Označba mesta vsebine 3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998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791"/>
              </a:solidFill>
              <a:latin typeface="DINCE-Light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91840" y="1320480"/>
            <a:ext cx="8001000" cy="3911400"/>
          </a:xfrm>
          <a:prstGeom prst="rect">
            <a:avLst/>
          </a:prstGeom>
          <a:ln w="0">
            <a:noFill/>
          </a:ln>
        </p:spPr>
      </p:pic>
      <p:pic>
        <p:nvPicPr>
          <p:cNvPr id="108" name="Grafikon 3" descr=""/>
          <p:cNvPicPr/>
          <p:nvPr/>
        </p:nvPicPr>
        <p:blipFill>
          <a:blip r:embed="rId2"/>
          <a:stretch/>
        </p:blipFill>
        <p:spPr>
          <a:xfrm>
            <a:off x="828720" y="1066680"/>
            <a:ext cx="7638840" cy="4419720"/>
          </a:xfrm>
          <a:prstGeom prst="rect">
            <a:avLst/>
          </a:prstGeom>
          <a:ln w="0">
            <a:noFill/>
          </a:ln>
        </p:spPr>
      </p:pic>
      <p:sp>
        <p:nvSpPr>
          <p:cNvPr id="109" name="Pravokotnik 4"/>
          <p:cNvSpPr/>
          <p:nvPr/>
        </p:nvSpPr>
        <p:spPr>
          <a:xfrm>
            <a:off x="552960" y="5292720"/>
            <a:ext cx="13892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a9d"/>
                </a:solidFill>
                <a:latin typeface="Times New Roman"/>
              </a:rPr>
              <a:t>PRIMER 1:</a:t>
            </a:r>
            <a:endParaRPr b="0" lang="en-US" sz="20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3a9d"/>
                </a:solidFill>
                <a:latin typeface="Times New Roman"/>
              </a:rPr>
              <a:t>1 uri 4000</a:t>
            </a:r>
            <a:endParaRPr b="0" lang="en-US" sz="16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3a9d"/>
                </a:solidFill>
                <a:latin typeface="Times New Roman"/>
              </a:rPr>
              <a:t>2 uri 6000</a:t>
            </a:r>
            <a:endParaRPr b="0" lang="en-US" sz="1600" spc="-1" strike="noStrike">
              <a:solidFill>
                <a:srgbClr val="003a9d"/>
              </a:solidFill>
              <a:latin typeface="Times New Roman"/>
            </a:endParaRPr>
          </a:p>
        </p:txBody>
      </p:sp>
      <p:sp>
        <p:nvSpPr>
          <p:cNvPr id="110" name="Pravokotnik 5"/>
          <p:cNvSpPr/>
          <p:nvPr/>
        </p:nvSpPr>
        <p:spPr>
          <a:xfrm>
            <a:off x="2519280" y="5030640"/>
            <a:ext cx="1728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PRIMER 2: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0:15    10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0:30    10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0:45    10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1:00    15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1:15    15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1:30    15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3a9d"/>
                </a:solidFill>
                <a:latin typeface="Times New Roman"/>
              </a:rPr>
              <a:t>01:45    1500</a:t>
            </a: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a9d"/>
              </a:solidFill>
              <a:latin typeface="Times New Roman"/>
            </a:endParaRPr>
          </a:p>
        </p:txBody>
      </p:sp>
      <p:cxnSp>
        <p:nvCxnSpPr>
          <p:cNvPr id="111" name="Raven puščični povezovalnik 6"/>
          <p:cNvCxnSpPr/>
          <p:nvPr/>
        </p:nvCxnSpPr>
        <p:spPr>
          <a:xfrm>
            <a:off x="1941480" y="5754240"/>
            <a:ext cx="432720" cy="1080"/>
          </a:xfrm>
          <a:prstGeom prst="straightConnector1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pic>
        <p:nvPicPr>
          <p:cNvPr id="112" name="Pravokotnik 7" descr=""/>
          <p:cNvPicPr/>
          <p:nvPr/>
        </p:nvPicPr>
        <p:blipFill>
          <a:blip r:embed="rId3"/>
          <a:stretch/>
        </p:blipFill>
        <p:spPr>
          <a:xfrm>
            <a:off x="4743360" y="5022720"/>
            <a:ext cx="1749600" cy="2133720"/>
          </a:xfrm>
          <a:prstGeom prst="rect">
            <a:avLst/>
          </a:prstGeom>
          <a:ln w="0">
            <a:noFill/>
          </a:ln>
        </p:spPr>
      </p:pic>
      <p:cxnSp>
        <p:nvCxnSpPr>
          <p:cNvPr id="113" name="Raven puščični povezovalnik 8"/>
          <p:cNvCxnSpPr/>
          <p:nvPr/>
        </p:nvCxnSpPr>
        <p:spPr>
          <a:xfrm>
            <a:off x="4032000" y="5754240"/>
            <a:ext cx="432360" cy="1080"/>
          </a:xfrm>
          <a:prstGeom prst="straightConnector1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09:17:17Z</dcterms:created>
  <dc:creator>pc</dc:creator>
  <dc:description/>
  <dc:language>en-US</dc:language>
  <cp:lastModifiedBy>Alauf Gregor</cp:lastModifiedBy>
  <dcterms:modified xsi:type="dcterms:W3CDTF">2018-11-19T07:44:02Z</dcterms:modified>
  <cp:revision>57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SR3VP2KPW45N-232-40</vt:lpwstr>
  </property>
  <property fmtid="{D5CDD505-2E9C-101B-9397-08002B2CF9AE}" pid="3" name="_dlc_DocIdItemGuid">
    <vt:lpwstr>25be39be-9576-49e1-a7e0-592a68284a82</vt:lpwstr>
  </property>
  <property fmtid="{D5CDD505-2E9C-101B-9397-08002B2CF9AE}" pid="4" name="_dlc_DocIdUrl">
    <vt:lpwstr>http://ec/sor/_layouts/15/DocIdRedir.aspx?ID=SR3VP2KPW45N-232-40, SR3VP2KPW45N-232-40</vt:lpwstr>
  </property>
</Properties>
</file>